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010911"/>
        <c:axId val="55145085"/>
      </c:barChart>
      <c:catAx>
        <c:axId val="41010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45085"/>
        <c:crosses val="autoZero"/>
        <c:auto val="1"/>
        <c:lblAlgn val="ctr"/>
        <c:lblOffset val="100"/>
        <c:noMultiLvlLbl val="0"/>
      </c:catAx>
      <c:valAx>
        <c:axId val="551450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10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6EA5-B0F7-4E29-BB9A-DD760F0C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7667-AD50-436E-9D7D-B0A3F54F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A35E-B334-466A-9B85-FC04BED4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6F3A-1A28-4D36-9D90-014DA0FA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4CA-3C85-4648-885C-779A7305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A5DE-E521-4A39-A42B-18C89404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26D6-D5BC-45CE-ABEC-301330F5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C1F4-6545-4909-8621-2F860752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12D-DEF8-46AE-93F8-CEF79C5E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EF04-A76E-4E09-ACB7-5E06B8CB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73B-BA4C-4C06-A048-D56521AB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9F28-EBB2-4095-97CC-B9BBF943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0D8E5-5110-4611-82D1-D70D602797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