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00656"/>
        <c:axId val="75094328"/>
      </c:barChart>
      <c:catAx>
        <c:axId val="56000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4328"/>
        <c:crosses val="autoZero"/>
        <c:auto val="1"/>
        <c:lblAlgn val="ctr"/>
        <c:lblOffset val="100"/>
        <c:noMultiLvlLbl val="0"/>
      </c:catAx>
      <c:valAx>
        <c:axId val="75094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00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8C4-0C2C-40CE-B461-4152A11F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012-A610-4E77-AC2D-ECACF960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4D4-95FC-43CA-A6FE-FBDAD53E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384-3CC8-4202-A6F4-6FB3F0D4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A8F-454E-423E-A956-C51478C5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AD4-39B6-4D54-BFD7-3D003C32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A02-4980-4AB4-A819-70DAE55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074-8FA8-4282-A3FF-BDFCFDE5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05A-0FCF-4A90-8BBB-4BCDEA6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6CE-8085-4F7A-AE37-248F0ED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009-6BCD-419B-BB55-813FE701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D3F-A30C-4739-9F97-1502026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0E63E-60FA-472C-8CCE-65FFD575F6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