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32549"/>
        <c:axId val="21823156"/>
      </c:barChart>
      <c:catAx>
        <c:axId val="74232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23156"/>
        <c:crosses val="autoZero"/>
        <c:auto val="1"/>
        <c:lblAlgn val="ctr"/>
        <c:lblOffset val="100"/>
        <c:noMultiLvlLbl val="0"/>
      </c:catAx>
      <c:valAx>
        <c:axId val="21823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32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784-ACF2-4BC2-A0BB-81323055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E2C-A4EB-44C5-BEDF-4D82DF04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8FE-A357-491E-BF62-F868D964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54C-2057-484B-ACD4-2C973415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5B2-573A-4A00-AE51-1E6D7484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E37-D612-4B44-ADE8-FC253D8F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B77-6407-4D9A-945B-A4DA87E5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82F-D250-43F8-9802-335E9A80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5E4-610E-46B7-9ED3-AB199E8F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0FF-85C6-4AAE-ABAA-625288B3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96C-B9D3-40FE-B958-E664B353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C32-FA8B-4772-8E57-7E20085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07690-CBE5-435E-A0D7-069441F051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