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57171"/>
        <c:axId val="12899903"/>
      </c:barChart>
      <c:catAx>
        <c:axId val="424571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99903"/>
        <c:crosses val="autoZero"/>
        <c:auto val="1"/>
        <c:lblAlgn val="ctr"/>
        <c:lblOffset val="100"/>
        <c:noMultiLvlLbl val="0"/>
      </c:catAx>
      <c:valAx>
        <c:axId val="12899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571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D484-C1C0-42BC-B432-1D26280D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E94E-F1E1-4707-9AD4-A8A61210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7E2C-0C1B-4ED3-87BC-918410D4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B8A6-99CB-4E15-83DF-44D44B410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DBD1-A123-4FCC-AEF9-2047F669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0988-897E-4D75-A9F3-D796EF41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D26-30BD-4FDA-91DB-DBB07DB4D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6004-F7D4-47F5-B8C0-5FE9316B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4325-1065-4312-8F49-35C8BF62B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773D-C92F-465E-8D86-12025F9C3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3453-D7F9-4029-AF19-8A077C3A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43D-65F7-4F10-A316-75C1CD0F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A8ABCD-3EA4-4B74-9446-2E3CFB7CC0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