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11899"/>
        <c:axId val="4875509"/>
      </c:barChart>
      <c:catAx>
        <c:axId val="39711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5509"/>
        <c:crosses val="autoZero"/>
        <c:auto val="1"/>
        <c:lblAlgn val="ctr"/>
        <c:lblOffset val="100"/>
        <c:noMultiLvlLbl val="0"/>
      </c:catAx>
      <c:valAx>
        <c:axId val="487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11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7E9-40B1-4528-A6CB-9BB152A1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84F-3407-43AB-B7C9-03152EA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3B2-0DF2-4A8F-B4D6-69FB128D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188-AE67-4FD3-873D-B53C73A1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716-CBA1-41F6-A7BE-FDBBDCED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148-E18B-4BC6-98C1-D0275DE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F7E-4AF7-46DB-93E9-BA51B1CC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B81-D92D-4346-A6BB-DCE7C3C6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60B-AEC3-4470-8FEC-7CEFB88D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42A-BF23-4613-A921-156A846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3EB-46D5-48A4-A27C-961552C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A6F-8EA7-4E09-A1C1-BDFB92B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16C30-525D-4390-9F6A-106458D63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