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36999"/>
        <c:axId val="84262775"/>
      </c:barChart>
      <c:catAx>
        <c:axId val="85136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62775"/>
        <c:crosses val="autoZero"/>
        <c:auto val="1"/>
        <c:lblAlgn val="ctr"/>
        <c:lblOffset val="100"/>
        <c:noMultiLvlLbl val="0"/>
      </c:catAx>
      <c:valAx>
        <c:axId val="84262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36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7C3-F08F-4A03-82CC-3B9F93B1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3D1-E210-4C6D-86C1-76C9910A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885-4B9A-452E-9BF7-BCC9D7F1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C0F9-44B6-4C6E-BE51-09490500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7B7-FF90-429F-B036-46B582BE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C0D-3B95-4591-BFE4-B38D0082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866D-68A5-40D4-B936-0846CDCC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648-6AC2-413D-9DC6-E6BA6FB8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9F0-904A-48A1-B1CB-460B3A9D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47E7-E4EF-4247-9746-A783C93A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FCC-3AB3-4326-879F-5DC01453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0D5-449A-402C-B159-D0A32116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B3184-075E-40DB-8F25-9598F3C512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