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26656"/>
        <c:axId val="2648049"/>
      </c:barChart>
      <c:catAx>
        <c:axId val="40126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8049"/>
        <c:crosses val="autoZero"/>
        <c:auto val="1"/>
        <c:lblAlgn val="ctr"/>
        <c:lblOffset val="100"/>
        <c:noMultiLvlLbl val="0"/>
      </c:catAx>
      <c:valAx>
        <c:axId val="2648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26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77F-9985-45F0-BCE9-8F881DB9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D6A-D744-4914-9E69-72E1A182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B41-FAAF-499F-934C-64D6B1E2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9C2-A63C-4377-A73C-F5571FD8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D3C-2E01-4875-99E4-A6D860C9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B9E-5403-42A2-9A06-80A4D37A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02A-BCCE-436C-A275-7D348899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0D2-60E8-4ECC-B69E-381D2AC3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4DF-C90B-4B77-8868-B0829B68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990-51AB-4BF1-A818-31905479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C8C-566D-4F23-9D15-3A10287B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4A1-2046-420C-91BC-D75CF66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C5E44-C760-47EC-9CBE-5DA556A7E8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