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19792"/>
        <c:axId val="41872781"/>
      </c:barChart>
      <c:catAx>
        <c:axId val="78319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72781"/>
        <c:crosses val="autoZero"/>
        <c:auto val="1"/>
        <c:lblAlgn val="ctr"/>
        <c:lblOffset val="100"/>
        <c:noMultiLvlLbl val="0"/>
      </c:catAx>
      <c:valAx>
        <c:axId val="41872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19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31A-5C8E-40E4-ABC0-C7974067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090-2663-47CA-B639-77BC921D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643-0B9A-4473-BE7B-0D18BAA2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231-495B-4A21-9983-3995B79E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320-5377-4C11-93FB-FA25AC0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B2B-A79B-4216-ABCB-5EF8433A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2B1-05AA-4B7F-BD04-48B99DC0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8CD-5A0D-4212-8608-E2C76673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945-82A1-49BF-A3A7-0AF94C0C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898-2529-4F42-87E2-A768311D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9D4-8B3F-4DE3-A23A-5ADEA694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76E-0A77-4BF7-BDDB-9BD2A84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D0ACA-F0B4-4D4A-B82F-3A387E1AC4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