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142897"/>
        <c:axId val="80237625"/>
      </c:barChart>
      <c:catAx>
        <c:axId val="821428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237625"/>
        <c:crosses val="autoZero"/>
        <c:auto val="1"/>
        <c:lblAlgn val="ctr"/>
        <c:lblOffset val="100"/>
        <c:noMultiLvlLbl val="0"/>
      </c:catAx>
      <c:valAx>
        <c:axId val="802376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1428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02F8-D529-4B89-B069-641017E96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8D04-2321-4C17-943F-50770149C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14AA-54B5-4DCF-BD32-80C32D2DF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8B38-61C1-4CA2-86AE-7D5639EC4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1F61-0114-49BC-8A64-C7215C7B2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B63B-A9FE-4AC8-9662-EAFB902CD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6CFA-C7D9-436C-9FDD-9678193BB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CFDD-3866-4A3D-890E-26F55D15E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B6A5-22B5-405C-916C-5A9B5CDBE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D890-D812-48D1-A38C-E5749E1E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019C-18D1-4B3D-B7C4-3BBF102EF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8BD0-A2DA-4477-A1F0-2788C46C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DB7D9F-8B51-4FF6-91F5-3BD0E9CCED7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