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860038"/>
        <c:axId val="30915858"/>
      </c:barChart>
      <c:catAx>
        <c:axId val="828600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15858"/>
        <c:crosses val="autoZero"/>
        <c:auto val="1"/>
        <c:lblAlgn val="ctr"/>
        <c:lblOffset val="100"/>
        <c:noMultiLvlLbl val="0"/>
      </c:catAx>
      <c:valAx>
        <c:axId val="309158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600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29CE-3E61-473A-A4A0-D153DF30F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1D62-546A-40C1-9796-2CB98904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8B0E-25A8-43E7-9CF9-2DB7A7100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E981-5C74-4F7C-8101-B6FB12050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22BB-7520-436B-B455-B40A13EE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5A94-9BDB-4F2B-88A2-86F154E6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62BF-5EE2-4CBA-B67B-AA843671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3166-B17D-472E-A89A-7B1CEEB3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5B69-373C-4F0A-AF13-DC5F2CC9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B166-E58B-468C-A181-01892400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57A5-7F67-485F-A9D2-BFE6A514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669F-1B5E-4010-B4E5-B4DA1F7F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FD6D1-B265-45B5-93A2-458FCD3B10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